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C84-AB55-480D-A1A6-1E050C3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9D5-D44C-41F9-AC9B-99B6D00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FF5-C5D6-4E5A-8746-72ABDC11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C5F-3CBF-4019-886C-8607DDAE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8543-390F-4D24-BE46-EDC97211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BE48-F164-4D48-B3AE-EB2D0DE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31A6-75E4-4524-98F0-AB80877E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7D0F-74EC-49D8-8FAE-4986AF7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5B08-4999-49D5-ACBF-438C901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36A-A2EF-470F-9D82-2A0B277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4B2F-605A-4597-BB57-63C1744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61D-97EE-49C2-9805-8CB1396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1AB-5B3B-44C7-BCFC-933414C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120-973F-4CE3-93F6-CF93B81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18F7-D4C5-4AD6-A899-E79D8448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E4ED-25CE-4775-BE4F-871DD29E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401E-2AB1-4312-BDC2-70A7362A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06BE-1795-4090-B771-E32F961A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0CD6-8FFC-43F6-997D-8B5C1E9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56F9-7D7F-4113-B7FD-17BEE8F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E132-0FB7-4C48-9C35-A873301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3E1F-1F3C-483E-AC27-E24DC712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AD0-2E1F-46E6-AACE-9BED36B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FA7C-AAFC-4801-AC13-3E20C353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54B1-0871-49F7-BD09-5846115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3D0D-A5D8-4264-A45C-2065AF5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F6FD-6602-4BAF-B0F1-DA39306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1238-27AC-4725-A50D-D64C621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AA9E-039C-410B-9AB9-648E43AD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0307-100E-4F00-8D83-C5E53243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AB0F-FAA1-4105-896F-18DC184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3CE1-6A1D-4886-A140-A64DC988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CCAB-A727-40DD-B090-157FD9FA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E9B-B716-4798-A7E8-55F0703C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DE00-A00C-4637-A07C-ECC2EB2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CCA4-0F85-4A19-8290-513DE02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AEB3-3603-4729-BE56-67E2FDD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A431-09C7-490D-84A9-D42CCE5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A999-AD62-454F-834B-E8400B3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1D4B-032C-448D-8876-3AA5696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F52D-52F8-42F9-A0E5-C349378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7871-8EF0-49A7-83D4-E64617F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974A-1E59-4D6D-B6AF-526932A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FF7-9BA7-4E70-8F68-8B71FD72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94D-3F2F-4ADA-916D-47DF2FE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08B-34A7-4F60-93B7-6048527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FA2-87E2-40F1-A6DE-BDB9D3CA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EA3-DA47-4914-B64C-A3917C9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3AF-08B1-476F-933C-DACFD27B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8513-B19B-4A6B-B2A1-FCD208B84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5D6-B150-4F21-8FF8-7BACEF51EF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440-6F17-4480-A563-4EE54FA034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dkintl.org/kappan/docs/09pol_highlights.pdf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3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80880"/>
            <a:ext cx="4952880" cy="3429000"/>
          </a:xfrm>
          <a:prstGeom prst="wedgeEllipseCallout">
            <a:avLst>
              <a:gd name="adj1" fmla="val 77050"/>
              <a:gd name="adj2" fmla="val 6939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05480" y="533520"/>
            <a:ext cx="34801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Schoo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Public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Re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685800"/>
            <a:ext cx="5410080" cy="2514600"/>
          </a:xfrm>
          <a:prstGeom prst="wedgeEllipseCallout">
            <a:avLst>
              <a:gd name="adj1" fmla="val 60180"/>
              <a:gd name="adj2" fmla="val 10662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4000" y="1143000"/>
            <a:ext cx="40640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What is the role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rincipal in develop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ood sch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22860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46360" y="990720"/>
            <a:ext cx="54522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akes a leadership r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refines and disseminates school n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develops positive relationships with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stablishes open lines of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ith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formulates plans and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152280"/>
            <a:ext cx="2590920" cy="1447920"/>
          </a:xfrm>
          <a:prstGeom prst="cloudCallout">
            <a:avLst>
              <a:gd name="adj1" fmla="val -17097"/>
              <a:gd name="adj2" fmla="val 225986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4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685800"/>
            <a:ext cx="7391520" cy="1523880"/>
          </a:xfrm>
          <a:prstGeom prst="wedgeEllipseCallout">
            <a:avLst>
              <a:gd name="adj1" fmla="val 28736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93480" y="1143000"/>
            <a:ext cx="606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 principal understands “public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51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685800"/>
            <a:ext cx="6782040" cy="1523880"/>
          </a:xfrm>
          <a:prstGeom prst="wedgeEllipseCallout">
            <a:avLst>
              <a:gd name="adj1" fmla="val 35814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39800" y="838080"/>
            <a:ext cx="45165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ach public has its 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ersonality, size, intere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d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8600" y="30492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3720" y="2085840"/>
            <a:ext cx="5799600" cy="14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xternal public—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at group t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ot in the buil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or 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152280"/>
            <a:ext cx="5486400" cy="1981440"/>
          </a:xfrm>
          <a:prstGeom prst="cloudCallout">
            <a:avLst>
              <a:gd name="adj1" fmla="val 31277"/>
              <a:gd name="adj2" fmla="val 198958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 understands the dynamics o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69400" y="3048120"/>
            <a:ext cx="4872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Parents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Clubs &amp; community service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Parent-teacher asso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Business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Adults who do not have children in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Civic groups and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28600" y="22860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2840" y="2009880"/>
            <a:ext cx="5519160" cy="14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nternal public—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ose groups wi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building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152280"/>
            <a:ext cx="4800600" cy="1676520"/>
          </a:xfrm>
          <a:prstGeom prst="cloudCallout">
            <a:avLst>
              <a:gd name="adj1" fmla="val 32375"/>
              <a:gd name="adj2" fmla="val 243467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 understands the dynamics o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95960" y="2847960"/>
            <a:ext cx="2620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Suppor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Other School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8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33520"/>
            <a:ext cx="6476760" cy="2590560"/>
          </a:xfrm>
          <a:prstGeom prst="wedgeEllipseCallout">
            <a:avLst>
              <a:gd name="adj1" fmla="val 45736"/>
              <a:gd name="adj2" fmla="val 939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960" y="838080"/>
            <a:ext cx="500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rincipals must underst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interrelationships of vari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ublics, their unique stru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llective personalities, interes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nd political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854100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54100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32760" y="838080"/>
            <a:ext cx="49525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warm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ccep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op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objective rather than emo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152280"/>
            <a:ext cx="2514600" cy="1067040"/>
          </a:xfrm>
          <a:prstGeom prst="cloudCallout">
            <a:avLst>
              <a:gd name="adj1" fmla="val -11490"/>
              <a:gd name="adj2" fmla="val 324106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 Black"/>
              </a:rPr>
              <a:t>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0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685800"/>
            <a:ext cx="6400800" cy="2209680"/>
          </a:xfrm>
          <a:prstGeom prst="wedgeEllipseCallout">
            <a:avLst>
              <a:gd name="adj1" fmla="val 47050"/>
              <a:gd name="adj2" fmla="val 1273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73680" y="1066680"/>
            <a:ext cx="4391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rincipal must develop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limate conducive to g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working relationship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ublics an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1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609480"/>
            <a:ext cx="6019560" cy="3124440"/>
          </a:xfrm>
          <a:prstGeom prst="wedgeEllipseCallout">
            <a:avLst>
              <a:gd name="adj1" fmla="val 45305"/>
              <a:gd name="adj2" fmla="val 743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416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03480" y="11160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53960" y="762120"/>
            <a:ext cx="34466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Cre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a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PR Pl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The surest way to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kill a ba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product is to advertise it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149160" y="5743440"/>
            <a:ext cx="2644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Mike Flynn, Darcy Adverti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Most public relations effort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have as much impact on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school/district performan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as a rain dance ha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on the weath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6308640" y="6004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28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11280" y="533520"/>
            <a:ext cx="43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o these sound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3880"/>
            <a:ext cx="5105160" cy="3448080"/>
          </a:xfrm>
          <a:prstGeom prst="rect">
            <a:avLst/>
          </a:prstGeom>
          <a:solidFill>
            <a:srgbClr val="c0c0c0"/>
          </a:solidFill>
          <a:ln w="38160">
            <a:solidFill>
              <a:srgbClr val="cc00cc"/>
            </a:solidFill>
            <a:miter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1. We notified everybody. 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sent a letter/memo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2. We tried some PR.  We mai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a press release Press k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3. Communication?  Our newsletter goes to over 50,000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4. Publicity?  Let’s do a publ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service announc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5. Marketing:  We’ve distribu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over one Kazillion brochur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228600"/>
            <a:ext cx="5257800" cy="1143000"/>
          </a:xfrm>
          <a:prstGeom prst="wedgeEllipseCallout">
            <a:avLst>
              <a:gd name="adj1" fmla="val 17208"/>
              <a:gd name="adj2" fmla="val 3095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63560" y="533520"/>
            <a:ext cx="43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o these sound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Effective marketing is really applied common sens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4998600" y="5927760"/>
            <a:ext cx="365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Nora K. Carr, St. Louis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743200" cy="1722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1676520"/>
            <a:ext cx="313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Comic Sans MS"/>
              </a:rPr>
              <a:t>RA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1800" y="3124080"/>
            <a:ext cx="392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alysis &amp;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alu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53680" y="3809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 Black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68520" y="37339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0"/>
            <a:ext cx="3733560" cy="914400"/>
          </a:xfrm>
          <a:prstGeom prst="wedgeEllipseCallout">
            <a:avLst>
              <a:gd name="adj1" fmla="val -89796"/>
              <a:gd name="adj2" fmla="val 13923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18520" y="22860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Remember to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1981440" cy="178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6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685800"/>
            <a:ext cx="6400800" cy="2514600"/>
          </a:xfrm>
          <a:prstGeom prst="wedgeEllipseCallout">
            <a:avLst>
              <a:gd name="adj1" fmla="val 46875"/>
              <a:gd name="adj2" fmla="val 952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08840" y="1222200"/>
            <a:ext cx="3460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R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esear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63868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to ask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makes your school uni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people find out about your scho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people perceive your school differently than yo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eive your school?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parents/students choose your school, programs?  Why do they choose your competit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values, lifestyles, interests of your customers?  What to they do for a living?  Educational level?  Are they happy?  Disappo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are you communicating with the most?  Who should you be communicating and relating with mo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is critical to your success?  Why?  How close are you to th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7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152280"/>
            <a:ext cx="6324480" cy="3733920"/>
          </a:xfrm>
          <a:prstGeom prst="wedgeEllipseCallout">
            <a:avLst>
              <a:gd name="adj1" fmla="val 46837"/>
              <a:gd name="adj2" fmla="val 621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1000" y="533520"/>
            <a:ext cx="33462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nalysi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&amp;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Plan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Focus is the secret ingredient in virtually every successful marketing pla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5171760" y="5775480"/>
            <a:ext cx="3961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Trout &amp; Ries, Bottom-Up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3924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ze data generated fro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or other collection instruments and develop a pl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GOA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impact attitude, opinion,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or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FOCUS ON WHAT THE CUSTO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Parents, Community etc.)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IMPLEMENT STRATEG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st way to reach, move, influence target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8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685800"/>
            <a:ext cx="6400800" cy="1828800"/>
          </a:xfrm>
          <a:prstGeom prst="wedgeEllipseCallout">
            <a:avLst>
              <a:gd name="adj1" fmla="val 46875"/>
              <a:gd name="adj2" fmla="val 1497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63520" y="990720"/>
            <a:ext cx="49280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etermine your Strength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Weaknesses, Opportuniti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Highlight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f the 2009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hi Delta Kappa/Gallup Poll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ublic's Attitudes Toward the Public School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55623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PDK Gallup Highl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-627120"/>
            <a:ext cx="6794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43000" y="228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it personal; focus on opinion lea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!  Segment!  Segm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and involvement in your school through advisory groups, sub-committ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mmunity and district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something new!  Explore ways to make new technology more intim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several channels to reach each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–often mailed to parents at PTA expe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 Tips Sheets –brief (who, what, when whe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ool Web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 Calling-Connect-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xt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 local newspaper offices – meet repor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ize teacher inservice – ex. Accelerated Reader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rteous personal conta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eakfast with par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-registration counseling with students &amp; par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recognition – award, bulletin boards, newspaper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ID cards –free admission to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opt a stu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House –have students and parents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ing Meals –business and professional lea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 shop –possible one night per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ing student grou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ized assignment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 a stud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side marqu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ters to parents –honor ro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 Honor Rolls in newspa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conduct award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news cards –hand out to parents at evening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ster club meetings after ball ga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dparent’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wers to mothers on mother’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ards assemb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tizenship and Good Deed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unce student birthdays over morning inter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picnic –invite parents in for specia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een doing something g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school for parents –entire day follow the schedule of their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citizen Thanksgiving di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citizen Pen-Pal clu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ve phone calls from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page in local newspa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web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out school email addresses to par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based grading and homework s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-Advisory Committ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ing community organizations (Rotary club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aking at community meetings (Homeowner’s Association meeting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renewal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-based enterpri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-school day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ing the building after hours for community use (scout meetings, computer lab use, library u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160" y="-8568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Strategies that break the mold grow initially like weeds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They are not cultivated like tomatoes in a hothous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26320" y="6019920"/>
            <a:ext cx="637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enry Mintzberg, “The Rise and Fall of Strategic Plann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1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685800"/>
            <a:ext cx="7315200" cy="1523880"/>
          </a:xfrm>
          <a:prstGeom prst="wedgeEllipseCallout">
            <a:avLst>
              <a:gd name="adj1" fmla="val 31638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45240" y="838080"/>
            <a:ext cx="5888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C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ommun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391520" y="5256360"/>
            <a:ext cx="1752480" cy="1601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609480"/>
            <a:ext cx="8763120" cy="3733920"/>
          </a:xfrm>
          <a:prstGeom prst="wedgeEllipseCallout">
            <a:avLst>
              <a:gd name="adj1" fmla="val 39222"/>
              <a:gd name="adj2" fmla="val 88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99680" y="1143000"/>
            <a:ext cx="63759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School public relations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is a solid, long-r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and democratic course of action.  It is a pro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hat attempts to foster understanding and friend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orking relationships between schools and the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communities in order that they may not only s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ducational needs but also select more intellige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he media and activities which will keep peo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informed about the schools, their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programs, progress, and probl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0"/>
            <a:ext cx="2971800" cy="1066680"/>
          </a:xfrm>
          <a:prstGeom prst="cloudCallout">
            <a:avLst>
              <a:gd name="adj1" fmla="val 24467"/>
              <a:gd name="adj2" fmla="val 437203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 Black"/>
              </a:rPr>
              <a:t>Not simply publicity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01028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y of Effective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-to-one, face to 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group discussion/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ing before a medium-sized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 conver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ail or text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-written, personal 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written, personal letter not generated by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generated “personal” le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-produced, non-personalized le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chure or pamphlet sent out as a “direct mail” pi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ticle in organizational newsletter, magazine, pos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 carried in popular p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ertising in newspapers, radio, TV, magazines, pos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less effective forms of communication (billboards, skywriters, pens, “give-aways,”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3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685800"/>
            <a:ext cx="6400800" cy="1752480"/>
          </a:xfrm>
          <a:prstGeom prst="wedgeEllipseCallout">
            <a:avLst>
              <a:gd name="adj1" fmla="val 46875"/>
              <a:gd name="adj2" fmla="val 158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07520" y="993600"/>
            <a:ext cx="39207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E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valu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403848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k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are we reach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what tools/channels of communic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should we be emphasizing mo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best way to reach our target audien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has been most effective in the past?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new avenues should we explo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resources do we ha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free help can we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can we collaborate wit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28004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using data in making deci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reporting information; or not developing reports that encourage other to use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getting to tell people how to use the information you collect or discov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4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838080"/>
            <a:ext cx="4800600" cy="1524240"/>
          </a:xfrm>
          <a:prstGeom prst="wedgeEllipseCallout">
            <a:avLst>
              <a:gd name="adj1" fmla="val 69643"/>
              <a:gd name="adj2" fmla="val 17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09440" y="15228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75120" y="993600"/>
            <a:ext cx="3629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Summ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2514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Essent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ective PR &amp; Marketing means building relationsh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better to have many people involved in your PR plan, understanding that efficiency may suffer some, than to have one person do everything perfec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PR &amp; Marketing program isn’t tied to your organization’s critical issues, you are going about it the wrong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est way to kill a bad product is to advertis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819520" cy="257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64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609480"/>
            <a:ext cx="7010640" cy="3124440"/>
          </a:xfrm>
          <a:prstGeom prst="wedgeEllipseCallout">
            <a:avLst>
              <a:gd name="adj1" fmla="val 49546"/>
              <a:gd name="adj2" fmla="val 9283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4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60280" y="1066680"/>
            <a:ext cx="504684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ffective public relations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 planned two-way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n which educators an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work together to m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 educational need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76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685800"/>
            <a:ext cx="5943600" cy="1828800"/>
          </a:xfrm>
          <a:prstGeom prst="wedgeEllipseCallout">
            <a:avLst>
              <a:gd name="adj1" fmla="val 54328"/>
              <a:gd name="adj2" fmla="val 1497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29800" y="1143000"/>
            <a:ext cx="3390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re is a need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281480"/>
            <a:ext cx="2819520" cy="257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8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685800"/>
            <a:ext cx="7620120" cy="3352680"/>
          </a:xfrm>
          <a:prstGeom prst="wedgeEllipseCallout">
            <a:avLst>
              <a:gd name="adj1" fmla="val 40314"/>
              <a:gd name="adj2" fmla="val 827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48000" y="990720"/>
            <a:ext cx="529524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eople must be informed if 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to vote intellig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re is a predominant compla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bout schools by opposition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y are neglecting the “three R’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media tends to focus on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98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457200"/>
            <a:ext cx="6400800" cy="1981080"/>
          </a:xfrm>
          <a:prstGeom prst="wedgeEllipseCallout">
            <a:avLst>
              <a:gd name="adj1" fmla="val 45064"/>
              <a:gd name="adj2" fmla="val 13701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23280" y="914400"/>
            <a:ext cx="4481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s an ongoing program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0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457200"/>
            <a:ext cx="6782040" cy="2895480"/>
          </a:xfrm>
          <a:prstGeom prst="wedgeEllipseCallout">
            <a:avLst>
              <a:gd name="adj1" fmla="val 42555"/>
              <a:gd name="adj2" fmla="val 840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61880" y="914400"/>
            <a:ext cx="46216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public relations goes on actively 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all times whether the school likes 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very contact is a PR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visitor’s perceptions are impa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ith every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07:36Z</dcterms:created>
  <dc:creator>Ronald A. Styron, Jr.</dc:creator>
  <dc:description/>
  <dc:language>en-US</dc:language>
  <cp:lastModifiedBy>Administrator</cp:lastModifiedBy>
  <dcterms:modified xsi:type="dcterms:W3CDTF">2009-12-04T19:30:46Z</dcterms:modified>
  <cp:revision>305</cp:revision>
  <dc:subject/>
  <dc:title>PowerPoint Presentation</dc:title>
</cp:coreProperties>
</file>